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211-067D-4FCF-B843-0C09157F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172-410D-4CB9-AEDA-2AD4FF48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7BC-B98D-41BE-B1F9-EC508CAF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4BF-FBF4-4A4C-8C43-3AEE07E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DCB7-3494-41A5-B317-FE8B5DA1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E2D8-8AB2-4B32-A082-BB1B93E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182-81EE-49FF-AD53-443CDD3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3DA-62F4-4CC4-AFCB-491502B6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9B28-38E2-4848-8238-8A3CC62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132-6D69-4878-B750-6732C608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9D60-B8CA-43B6-98EB-18A7BB5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91C-113C-45C2-A14F-7B2CAC1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769B-B134-4A10-A15A-F7DF18F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89F-187B-4047-AA67-45E51EE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99BE-D461-4CA9-B7F4-2D6D238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5C1D-C57D-446D-990F-B20EA23A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E33B-9DA7-45B1-854F-0CADC9DD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F8E-D3DF-4F2F-BBB3-8988DD34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3F4-724E-4A33-9FF2-B712664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A14-DF05-4982-B280-D0B3EC0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970-0F23-4B35-88FE-62D5067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6BC-9F71-4412-B9E0-B8DCEB41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01C-0559-44EA-9855-4F6293B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7B2-CF99-4DC7-B599-F86D434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C9EB-F5BC-4237-8DF4-7392C210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14F5-2376-4076-B874-DB4880E89081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hyperlink" Target="http://iubio.bio.indiana.edu/daphnia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elvetica Neue"/>
              </a:rPr>
              <a:t>Argo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&amp; Genome Directorie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pple Chancery"/>
              </a:rPr>
              <a:t>&amp; Lucegene (‘Lucy Jean’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A Replicable Genome infOrmation Syste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of Common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90800" y="5788080"/>
            <a:ext cx="181908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160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03848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, MacOSX, other system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5920" y="914400"/>
            <a:ext cx="45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3"/>
              </a:rPr>
              <a:t>iubio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4"/>
              </a:rPr>
              <a:t>.bio.indiana.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5"/>
              </a:rPr>
              <a:t>edu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6"/>
              </a:rPr>
              <a:t>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pple Chancery"/>
              </a:rPr>
              <a:t>Lucegene (‘Lucy Jean’)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Genome Information Search and Retriev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64520" y="44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04920" y="320040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by orders of magnitude at search of complex data (no table joins; data is extreme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8640" y="32004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to Glimpse, Exite, WAIS, Isearch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Doug Cutting has written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ome Data Directories</a:t>
            </a: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264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7440" y="1143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elvetica Neue"/>
              </a:rPr>
              <a:t>(SRS - Lion Bio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tellation of Bio-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2200" y="4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S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420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78600" y="25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1660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7560" y="255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iubio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.bio.indiana.edu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biogrid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/direc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stall &amp; replication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ommon { fetch, compile, install, configure,…} loop for packages of software &amp;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most GMOD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mod.org/argos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eugene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.org/argo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 sample tes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/  -- common directory of projects, each a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07T02:43:01Z</cp:lastPrinted>
  <dcterms:modified xsi:type="dcterms:W3CDTF">2003-09-13T19:46:49Z</dcterms:modified>
  <cp:revision>47</cp:revision>
  <dc:subject/>
  <dc:title>wFleaBase in ARGOS</dc:title>
</cp:coreProperties>
</file>